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9EA-1E30-481F-B594-5DE14E44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118-9350-44FD-AC78-03972672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3D9-CC6E-4906-AF6E-016C296C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B36-133D-4DC4-8518-3A2FBA3F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DBE-8B6E-4301-8614-2B3E8720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3C3-7296-4726-99EF-AC96CEB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38E-A543-4C98-B390-30F459D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91C-1B1A-4ACA-AB7F-8ADC91F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14C-5CF1-4E1D-A421-091599D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54C-B951-450C-8350-D793EEF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6D3-EFF1-44E6-85F3-53AD25D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7F1-86CB-4F66-B78E-C3F2052E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EA6-BEDF-45C5-9957-F59799CC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1 Kráľ večný, veď nás stá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k boju sily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ad zlom zvíťaz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smieme večn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ebude už smúto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, sveta ne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s nami budeš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blaženosti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hriech nás nezlom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ráca svoju vlád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bdieš ty nad 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návrat už sa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priprav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 tebou smieme vstúp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odním bázeň, strach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ideme vpred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vetlo z tvojho krí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u sviet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e tam v cieli,kde privítaš nás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37:06Z</dcterms:modified>
  <cp:revision>22</cp:revision>
  <dc:subject/>
  <dc:title>Je veľký náš Pán, on slávy je Kráľ Nech do všetkých strán  spev vrúcnych znie chvál.</dc:title>
</cp:coreProperties>
</file>